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62400" cy="4114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CD8-2A0F-4442-A0AF-910CD257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63680" y="247611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E7D-8999-4BCB-B117-AE88952A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31884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811-1564-4F71-A081-C8034629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20484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4600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6368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920484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24600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769-2954-4762-AB0E-C6E8DC07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F73-CEE8-410E-9442-36F5DE33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E0B6-7CAB-4426-9621-0EFE490C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51B-A2AF-4458-9DF1-1A19FFE3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73C-C2DC-4145-8376-FE8A7EC5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63680" y="3660480"/>
            <a:ext cx="35736120" cy="317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428-355A-44D3-8693-830D57C5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815-C2B7-4477-AC5B-008018FB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31884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73F-142D-40AE-B755-771384EF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CE1-59C1-41F9-B27F-01168F12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marL="608040" indent="-6080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506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2019240" indent="-399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2832120" indent="-407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3680" y="37486800"/>
            <a:ext cx="876276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74800" y="37486800"/>
            <a:ext cx="1331424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37040" y="37486800"/>
            <a:ext cx="876312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fld id="{6DCABC28-AAF1-4193-9ABA-5325168E2B5E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590000" y="23402880"/>
            <a:ext cx="1712880" cy="394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biocyc.org/otherpgdbs.shtml" TargetMode="External"/><Relationship Id="rId5" Type="http://schemas.openxmlformats.org/officeDocument/2006/relationships/hyperlink" Target="http://biocyc.org/query.shtml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89240" y="279360"/>
            <a:ext cx="332996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An Advanced Web Query Interface for Biological Databas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9320" y="1714680"/>
            <a:ext cx="264063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Peter D. Karp, Mario Latendress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  <a:ea typeface="Times New Roman"/>
              </a:rPr>
              <a:t>Bioinformatics Research Group, SRI International, Menlo Park CA USA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bioinformatics.ai.sri.com/ptools/          BioCyc.org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97040" y="5915160"/>
            <a:ext cx="12538080" cy="12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way Too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ftware [1] is used to create, query, curate, and analyze Pathway/Genome Databases (PGDBs). A PGDB integrates information about genomes, metabolic pathways, and regulatory network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hway Tools operations inclu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ry and update genome and pathway anno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diction of metabolic network from genome sequ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sual analysis of omics datas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arative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twork analysis and debugg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arge number of PGDBs are accessible on the Internet from Pathway Tools based Web sites that provide the exploration capabilities described he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way Tools Avai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ly available to academics and non-profits.  Licensed by 2,100 grou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s on PC/Linux, PC/Windows, Macintos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1] Karp, P.D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riefings in Bioinformatic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010 11:40-79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2] Latendresse, M. and Karp, P.D.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010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pported b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grants GM75742 and GM080746 from the National Institutes of Health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19973880"/>
            <a:ext cx="2004372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299280" y="736560"/>
            <a:ext cx="2022480" cy="157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273320" y="4876920"/>
            <a:ext cx="1266984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. Pathway/Genome Databases on the Intern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071760" y="4902120"/>
            <a:ext cx="1055520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. Structured Advanced Query For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720" y="17915040"/>
            <a:ext cx="0" cy="865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34040" y="2482920"/>
            <a:ext cx="2691000" cy="93672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429240" y="1028880"/>
            <a:ext cx="2097360" cy="8841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990720" y="4800600"/>
            <a:ext cx="1135368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. 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4120" y="5991120"/>
            <a:ext cx="12769560" cy="9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PGDBs  include the following.  Web links to all available from 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BioCyc.org/otherpgdbs.s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find them using Goog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crob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Cyc – 670 microbial PGDBs including EcoCyc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K-1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oCyc – 33 Bioenergy organis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reptomyces coelicol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eudo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seudomonas aerugino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RIC – Bacterial pathog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iCyc – 8 apicomplexan PGD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ung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ast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accharomyces cerevisia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bi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andida albic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Cyc – 7 Solanacea PGD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lamy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lamydomonas reinhardti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a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rabidopsis thalia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e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ryza sa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Cyc – General plant PGD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mmali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useCyc, HumanCyc, CattleCy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9040" y="428760"/>
            <a:ext cx="28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ter E0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555560" y="428760"/>
            <a:ext cx="41940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ter K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RI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33 Ravenswood Ave, Menlo Park CA 94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650-859-43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360400" y="6102360"/>
            <a:ext cx="12080880" cy="83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ing precise and complicated queries against biological databases (DBs) usually requires programming ski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Web-based DB query forms are quite restricted in power of queries they can sup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hway Tools Structured Advanced Query Form (SAQP)  [2]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friend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precise and complicated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multiple conditions and connecti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connections between object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ma driv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active documentation on DB sch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o find the SAQP on the Web: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biocyc.org/query.shtm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arch -&gt; Advanced at any Pathway Tools driven Web s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362320" y="19964520"/>
            <a:ext cx="9239040" cy="1143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2438280" y="32489640"/>
            <a:ext cx="9172800" cy="8429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14935320" y="19354680"/>
            <a:ext cx="10515600" cy="11325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5468480" y="31470480"/>
            <a:ext cx="9734760" cy="9601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29184480" y="19345320"/>
            <a:ext cx="9239400" cy="11439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29260800" y="31699080"/>
            <a:ext cx="9229680" cy="8163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30632400"/>
            <a:ext cx="685800" cy="213372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720"/>
              <a:gd name="textAreaBottom" fmla="*/ 154692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812880" y="30022920"/>
            <a:ext cx="685800" cy="213336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360"/>
              <a:gd name="textAreaBottom" fmla="*/ 1546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92320" y="30022920"/>
            <a:ext cx="685800" cy="213336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360"/>
              <a:gd name="textAreaBottom" fmla="*/ 1546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8288000"/>
            <a:ext cx="80769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initial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Compounds whose molecular weight is between 400 and 4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a result table that includes the compound name, chemical formula, and molecular 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849720" y="1781496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dditional condition to previous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ultivalued slot Regulates, which lists regulation interactions that the compound regulates, must have more than 0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0" y="17221320"/>
            <a:ext cx="80773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wo additional conditions to previous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gulation interaction must have a parent class whose name includes the string “enzym”, indicating that it involves regulation of enzyme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 of regulation must be positive (activ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868280" y="16382880"/>
            <a:ext cx="1266984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. Example Queries and Their Resul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11:57:24Z</dcterms:created>
  <dc:creator>Peter Karp</dc:creator>
  <dc:description/>
  <dc:language>en-US</dc:language>
  <cp:lastModifiedBy>GMOD / NESCent</cp:lastModifiedBy>
  <cp:lastPrinted>2000-09-13T00:15:44Z</cp:lastPrinted>
  <dcterms:modified xsi:type="dcterms:W3CDTF">2010-07-15T16:19:48Z</dcterms:modified>
  <cp:revision>194</cp:revision>
  <dc:subject/>
  <dc:title>EcoCyc/MetaCyc Poster</dc:title>
</cp:coreProperties>
</file>